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5C4-414E-466E-9A48-C28ABDA0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E44-A394-4316-AF9D-F10DF9659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A26-EF1B-4EC5-913B-E64440FBF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1D0-CD10-4898-B950-BB536BF30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530-78D4-4144-B0AA-2B62B214A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2BB-8666-4DBA-984B-431917D4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46A-F9A9-4BE5-AD6D-0C8B1D2C6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FDD-F35B-4CEF-8EBF-7F216A57B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2E3-2DFB-4AA4-B516-51889F46F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6C5-A546-4258-9709-DC4E0B41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F21-4C02-4BC8-9038-29B04BF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93B-1CA3-4198-8023-6C1179F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126-BD83-46F2-AD4F-4754E962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8A7E-CAB8-41EE-98C5-2A580987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C75-CD37-4F62-A014-33B03E9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E01-E9FB-4501-A660-BD8CDA0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F36-3C53-45D7-A8DC-6194649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921-83C8-4F7E-89CC-44A73163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F96-5520-489C-BB9A-01BC6AFD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DD5-4C05-4E22-826C-6343B4C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B3F-6124-4E3D-8CBB-2C89F8DD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1C05-4696-4674-A4B3-9141951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FA99-0535-469E-A133-94686FB4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0D89-8974-4ACB-AC63-17582B3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A34-8D32-4F84-97B4-F4CF0282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F2A3-CFDD-4662-B8EA-0C7455B3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A31-894C-4DBE-8CF6-5B0A781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F55-432F-4643-B58E-DCF2260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BD1-D94F-4B0E-8691-B70F6D6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B8A-8BC8-494A-842C-A707E72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33B-93FF-49C5-9837-230597B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49A-8DF3-450E-A443-F8868E5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570-3DBF-4974-BD88-C3726CF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1BB-6C2F-453A-A653-99D1D5A776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837-436B-42E7-966C-9C277A92F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E06-CE1A-4D48-859F-61B22E6F7A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Anticipated Cars for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ill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E95-1F82-44B0-B0DB-409947EB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80F3-8C09-4666-908F-2153851BF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AA1D-8F36-4AD2-9C40-4EDA69026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4BA-3697-4419-A670-82B2D7CA8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6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l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yl.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mo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ode driv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 mi. Electr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liter gas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764-F38D-47B6-B0EA-B7FAFF7B3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6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4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5 l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.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mo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ode driv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 mi. Electr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4 liter gas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50E-66D0-4D6D-A768-79BCD5823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e to comple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rt with your partn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ny “missing inform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“questions that you have” that were not answered in the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 code – best = green, and worst = p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A324-D0E5-4CA7-A49C-2A49F12E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a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es th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es $$ in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b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ranking of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9C2-29E7-49BF-9C85-1B0B61A08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ed on what you have learned from a more careful synthesis of the ideas/fac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I did not have to worry about the purchase price, I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buy the ______________ .  It is my first choice because _____________________________________,  _______________________________, and ________ __________________________.  My  second choice for a car would be a___________.   But if I had limited funds, I would settle for buying a  ________________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6D1-FCFC-4F7C-8587-EB2A5A8DE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we begin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all the facts from the Round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finished the story, you made a decision about which car you would bu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then we looked at a few individual elements that you might consid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FD4-B804-45AF-9983-7DD6062C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do you like the looks of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362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419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419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0BF-146B-4179-A21B-FF72AB063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gets the best mileage? 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267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191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B4DF-ABD4-41A1-957D-A04FCF8CF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 initially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500-E5D0-4DDA-B0ED-5194FAB4D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, keep for 10 years and add 15,000 miles each year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hevy volt.jpg"/>
          <p:cNvPicPr/>
          <p:nvPr/>
        </p:nvPicPr>
        <p:blipFill>
          <a:blip r:embed="rId4"/>
          <a:stretch/>
        </p:blipFill>
        <p:spPr>
          <a:xfrm>
            <a:off x="1676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8006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6DD-00DC-4D46-B406-47B71DFC2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, I am going to demonstrate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rocess that includes synthesis that helps you make a decision based on many critical attribute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6863-A619-4EEB-AEE7-06AC55F9B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15B-E1C3-4238-AD0E-B69DA4D48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39DB-FF10-489A-BA82-A0D8100A4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10:27Z</dcterms:created>
  <dc:creator>USER</dc:creator>
  <dc:description/>
  <dc:language>en-US</dc:language>
  <cp:lastModifiedBy>lhockenberry</cp:lastModifiedBy>
  <dcterms:modified xsi:type="dcterms:W3CDTF">2011-03-01T15:19:29Z</dcterms:modified>
  <cp:revision>17</cp:revision>
  <dc:subject/>
  <dc:title>Most Anticipated Cars for 2011</dc:title>
</cp:coreProperties>
</file>